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0EC2-B60D-4A78-B18B-C5B67704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5C0-9A5C-4463-B59B-160586E8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7D7-7737-4009-BFFC-5445D0C3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F81-94C5-4680-97B6-C0B7F52A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9EE-CFCE-47CD-81EF-83704F12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9C3-AC82-44EA-954A-54A48EFE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304-D296-4BD4-9534-9A9D29E8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304-364B-4A54-A548-311696FE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F2C-5630-4389-A36E-E247819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7EA-DDF9-489B-9527-9F85984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61C-CD61-40BE-AF4F-9B1F33F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6AC-FCE0-4D05-B21F-37FECB52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6904-3568-456D-8E62-67FC9CBF2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Amerikan Doğayı Koruma kuruluşlarının araştırmalarına göre dünyada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ti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k torba kullanım adedi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yılda yaklaşık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 m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ile 1 trilyon adet arası değişmektedi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6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Geographic News September 2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nun içindir ki,Kuzey kutbund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tzberge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yakınlarınd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güneyd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kland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alarına kadar geniş bir çevrede, denizde yüzeyinde sık sık plastik torbalara rastlan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724280" cy="333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ritish Antarctic Surv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pollution.jpg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171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lar, Amerikan sahillerinden toplanan atıkların %10’unu teşkil etmekted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ational Marine Debris Monitoring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şık, plastik torbalarda kimyasal çözümlemelere neden olur.  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Zaman içinde daha küçük ancak daha zehirli petro-polimerlere bölünürl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114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Ve... bunlar da topraklarımızı ve sularımızı zehi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46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749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Sonuçta, bu mikroskopik partiküller besin zincirine gir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53640" cy="542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şte o zaman doğal hayatın geleceği enikonu tehliked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52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alina, yunus, fok, deniz kaplumbağalarından başlayarak yaklaşı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00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deniz canlısı, plastik torbalar nedeni ile hayatını kayb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025880" cy="3797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he minke whale carcase at Scalloway marina on Monday morning. Photo: Jim Nicolson"/>
          <p:cNvPicPr/>
          <p:nvPr/>
        </p:nvPicPr>
        <p:blipFill>
          <a:blip r:embed="rId2"/>
          <a:stretch/>
        </p:blipFill>
        <p:spPr>
          <a:xfrm>
            <a:off x="457200" y="297180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2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7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24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522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Kuşlar boğulu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100760" cy="563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387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610480" cy="4836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Besin sanarak yuttukları plastiği hazmedemeyen kaplumbağalar ölü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torbaların geri dönüştürülen miktarı ancak %1dir. Bir torbanın geri kazanımı, yenisini üretmekten kat kat paha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60958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hristian Science Monitor New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Öyleys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Çözüm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ez torba kullanmak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ftada 6 plastik torbayı kullanımdan çıkartmış oluru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Bu da ayda 24 torb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Yılda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88 </a:t>
            </a: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torb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Ortalama bir yaşam süresin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de,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2,176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torba e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639040" cy="4151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lkemizde he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tr-T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işiden sade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tr-TR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 bunu yapsa, yaşamımız süresince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31.046.400.000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lastik torba kullanımdan kalkmış ol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ngladesh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 kullanımını yasaklamışt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MSNBC.com March 8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Çin, kullanımını paralı yapmıştı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191120" cy="2847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landa, Avrupa’da bir ilk olara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2002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’de plastik torbaları vergilendirdi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Bugüne kadar plastik torba kullanımında %90 azalma kaydedildi.</a:t>
            </a: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BC News August 20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005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’t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Rwanda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 kullanımını yasaklad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ssociated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5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Geri dönüşüm projelerinc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 ton plasti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torbanın işlenme ve dönüşümü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,000 $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’a mal olurken, bunların bilahare yeni olarak marketlere satışı sade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32 $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1920" y="4572000"/>
            <a:ext cx="808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Jared Blumenfel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Director of San Francisco's Department of the Environ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330720" cy="3505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da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atı Hindist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Botswana, Kenya, Tanzania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Gü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fr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, Taiwan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inga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se, yasaklandı ya da yasaklanma yolunda adımlar atıld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PlanetSave.com February 16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3200400"/>
            <a:ext cx="308448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7 Mar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2007, San Francisco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Amerika’da plastik torba kullanımını ilk yasaklayan şehir old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64008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PR.org (National Public Ra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akland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v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oston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yasaklama yolunda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The Boston Globe May 2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ti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alışveriş torbaları, petrol türevi bir termoplastik olan polietilen mamulüdü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6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08628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Dolayısile plastik torba kullanımındaki azalma, bir ülkenin dışa olan bağımlılığında da bir azalma demektir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8769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930240"/>
            <a:ext cx="5943600" cy="592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in, sadece torbaları paralı yapmakla, her yıl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7 mil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y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fıçı petrol tasarruf edec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00360" y="1704960"/>
            <a:ext cx="3732120" cy="4971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Demek ki...bir şeyler yapmak mümkü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440" y="3246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Öyleyse, bunca torba nereye gidiyor?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04920"/>
            <a:ext cx="8381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5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teki bir araştırmaya gö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kyanuslarda dolaşan gemiler yılda yaklaşık 3.700.000kg. plastik torbayı denizlere boşaltırlar.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ünya yüzeyi henüz bir plastik çöplüğüne dönmemişse, bunun nedeni denizlerin dibinin çöplük olarak kullanılmas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U.S. National Academy of Sci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37832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7150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Doğaya bırakılan torbaları rüzgar uçurarak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59436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En ücra noktalara kadar ulaştır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Izgaralardan sızarak kanalizasyon yolu i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deniz, göl ve nehirlere varır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00:08Z</dcterms:created>
  <dc:creator>hP</dc:creator>
  <dc:description/>
  <cp:keywords/>
  <dc:language>en-US</dc:language>
  <cp:lastModifiedBy>hP</cp:lastModifiedBy>
  <dcterms:modified xsi:type="dcterms:W3CDTF">2008-06-03T13:11:46Z</dcterms:modified>
  <cp:revision>2</cp:revision>
  <dc:subject/>
  <dc:title>Amerikan Doğayı Koruma kuruluşlarının araştırmalarına göre dünyada plastik torba kullanım adedi yılda yaklaşık 500 milyon ile 1 trilyon adet arası değişmektedir.  National Geographic News September 2, 2003</dc:title>
</cp:coreProperties>
</file>